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4.bin" ContentType="application/vnd.openxmlformats-officedocument.oleObject"/>
  <Override PartName="/ppt/embeddings/oleObject32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46.wmf" ContentType="image/x-wmf"/>
  <Override PartName="/ppt/media/CAMERA.WAV" ContentType="audio/x-wav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doorbl07.wav" ContentType="audio/x-wav"/>
  <Override PartName="/ppt/media/image41.wmf" ContentType="image/x-wmf"/>
  <Override PartName="/ppt/media/image40.wmf" ContentType="image/x-wmf"/>
  <Override PartName="/ppt/media/image30.wmf" ContentType="image/x-wmf"/>
  <Override PartName="/ppt/media/child%20yikes.wav" ContentType="audio/x-wav"/>
  <Override PartName="/ppt/media/WHOOSH.WAV" ContentType="audio/x-wav"/>
  <Override PartName="/ppt/media/image79.wmf" ContentType="image/x-wmf"/>
  <Override PartName="/ppt/media/image29.wmf" ContentType="image/x-wmf"/>
  <Override PartName="/ppt/media/image94.wmf" ContentType="image/x-wmf"/>
  <Override PartName="/ppt/media/image27.wmf" ContentType="image/x-wmf"/>
  <Override PartName="/ppt/media/image92.wmf" ContentType="image/x-wmf"/>
  <Override PartName="/ppt/media/image25.wmf" ContentType="image/x-wmf"/>
  <Override PartName="/ppt/media/image90.wmf" ContentType="image/x-wmf"/>
  <Override PartName="/ppt/media/image24.wmf" ContentType="image/x-wmf"/>
  <Override PartName="/ppt/media/kid%20yeah.wav" ContentType="audio/x-wav"/>
  <Override PartName="/ppt/media/image23.wmf" ContentType="image/x-wmf"/>
  <Override PartName="/ppt/media/image26.wmf" ContentType="image/x-wmf"/>
  <Override PartName="/ppt/media/image91.wmf" ContentType="image/x-wmf"/>
  <Override PartName="/ppt/media/slider22.wav" ContentType="audio/x-wav"/>
  <Override PartName="/ppt/media/image33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yabba-dabba-do.wav" ContentType="audio/x-wav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CLAP.WAV" ContentType="audio/x-wav"/>
  <Override PartName="/ppt/media/image5.wmf" ContentType="image/x-wmf"/>
  <Override PartName="/ppt/media/image17.wmf" ContentType="image/x-wmf"/>
  <Override PartName="/ppt/media/image82.wmf" ContentType="image/x-wmf"/>
  <Override PartName="/ppt/media/LASER.WAV" ContentType="audio/x-wav"/>
  <Override PartName="/ppt/media/image88.wmf" ContentType="image/x-wmf"/>
  <Override PartName="/ppt/media/image14.wmf" ContentType="image/x-wmf"/>
  <Override PartName="/ppt/media/image2.wmf" ContentType="image/x-wmf"/>
  <Override PartName="/ppt/media/image34.wmf" ContentType="image/x-wmf"/>
  <Override PartName="/ppt/media/image57.wmf" ContentType="image/x-wmf"/>
  <Override PartName="/ppt/media/image20.wmf" ContentType="image/x-wmf"/>
  <Override PartName="/ppt/media/image56.wmf" ContentType="image/x-wmf"/>
  <Override PartName="/ppt/media/zipby102.wav" ContentType="audio/x-wav"/>
  <Override PartName="/ppt/media/highchime.wav" ContentType="audio/x-wav"/>
  <Override PartName="/ppt/media/image66.wmf" ContentType="image/x-wmf"/>
  <Override PartName="/ppt/media/zapbig0g.wav" ContentType="audio/x-wav"/>
  <Override PartName="/ppt/media/image63.wmf" ContentType="image/x-wmf"/>
  <Override PartName="/ppt/media/image59.wmf" ContentType="image/x-wmf"/>
  <Override PartName="/ppt/media/image22.wmf" ContentType="image/x-wmf"/>
  <Override PartName="/ppt/media/image62.wmf" ContentType="image/x-wmf"/>
  <Override PartName="/ppt/media/image61.wmf" ContentType="image/x-wmf"/>
  <Override PartName="/ppt/media/caralarmoff.wav" ContentType="audio/x-wav"/>
  <Override PartName="/ppt/media/image64.wmf" ContentType="image/x-wmf"/>
  <Override PartName="/ppt/media/image65.wmf" ContentType="image/x-wmf"/>
  <Override PartName="/ppt/media/image67.wmf" ContentType="image/x-wmf"/>
  <Override PartName="/ppt/media/image58.wmf" ContentType="image/x-wmf"/>
  <Override PartName="/ppt/media/image21.wmf" ContentType="image/x-wmf"/>
  <Override PartName="/ppt/media/image60.wmf" ContentType="image/x-wmf"/>
  <Override PartName="/ppt/media/image95.wmf" ContentType="image/x-wmf"/>
  <Override PartName="/ppt/media/image89.wmf" ContentType="image/x-wmf"/>
  <Override PartName="/ppt/media/image52.wmf" ContentType="image/x-wmf"/>
  <Override PartName="/ppt/media/image87.wmf" ContentType="image/x-wmf"/>
  <Override PartName="/ppt/media/image50.wmf" ContentType="image/x-wmf"/>
  <Override PartName="/ppt/media/image75.wmf" ContentType="image/x-wmf"/>
  <Override PartName="/ppt/media/image78.wmf" ContentType="image/x-wmf"/>
  <Override PartName="/ppt/media/image76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68.wmf" ContentType="image/x-wmf"/>
  <Override PartName="/ppt/media/image31.wmf" ContentType="image/x-wmf"/>
  <Override PartName="/ppt/media/image55.wmf" ContentType="image/x-wmf"/>
  <Override PartName="/ppt/media/image54.wmf" ContentType="image/x-wmf"/>
  <Override PartName="/ppt/media/CASHREG.WAV" ContentType="audio/x-wav"/>
  <Override PartName="/ppt/media/image53.wmf" ContentType="image/x-wmf"/>
  <Override PartName="/ppt/media/image51.wmf" ContentType="image/x-wmf"/>
  <Override PartName="/ppt/media/GUNSHOT.WAV" ContentType="audio/x-wav"/>
  <Override PartName="/ppt/media/image77.wmf" ContentType="image/x-wmf"/>
  <Override PartName="/ppt/media/DRIVEBY.WAV" ContentType="audio/x-wav"/>
  <Override PartName="/ppt/media/image28.wmf" ContentType="image/x-wmf"/>
  <Override PartName="/ppt/media/image93.wmf" ContentType="image/x-wmf"/>
  <Override PartName="/ppt/media/byipee04.wav" ContentType="audio/x-wav"/>
  <Override PartName="/ppt/media/children%20yeah.wav" ContentType="audio/x-wav"/>
  <Override PartName="/ppt/media/EXPLODE.WAV" ContentType="audio/x-wav"/>
  <Override PartName="/ppt/media/image1.wmf" ContentType="image/x-wmf"/>
  <Override PartName="/ppt/media/image13.wmf" ContentType="image/x-wmf"/>
  <Override PartName="/ppt/media/hzipup01.wav" ContentType="audio/x-wav"/>
  <Override PartName="/ppt/media/image12.wmf" ContentType="image/x-wmf"/>
  <Override PartName="/ppt/media/CHIMES.WAV" ContentType="audio/x-wav"/>
  <Override PartName="/ppt/media/image49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7A79-8DAA-48CE-9941-717DA01A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2B6-6564-46FD-854F-521F88CE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CE8C-D5F3-4685-A614-334AE6C5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9B2-8FF5-491B-BA3D-9E0AE4FF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BB6C-D85F-4AAE-83C2-054517EA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A26-D6BC-48C4-81B3-93741F21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5D34-8209-4DDF-8E50-7CE2A3D5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6604-0CB5-4CC8-AEB4-9627FE9F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C45-CD0B-4C37-9EB7-CC51CCAF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F2A9-FA4D-4F55-9794-4B31578C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2F5-8903-4DB2-B63F-198A2ECD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452F-1C2E-494C-AFEF-E0858C3C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7CE6-FFD8-4A22-9A76-54AF435F2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audio" Target="../media/EXPLODE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CHIMES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CASHREG.WAV"/><Relationship Id="rId34" Type="http://schemas.openxmlformats.org/officeDocument/2006/relationships/audio" Target="../media/CASHREG.WAV"/><Relationship Id="rId35" Type="http://schemas.openxmlformats.org/officeDocument/2006/relationships/audio" Target="../media/CASHREG.WAV"/><Relationship Id="rId36" Type="http://schemas.openxmlformats.org/officeDocument/2006/relationships/audio" Target="../media/CASHREG.WAV"/><Relationship Id="rId37" Type="http://schemas.openxmlformats.org/officeDocument/2006/relationships/audio" Target="../media/CASHREG.WAV"/><Relationship Id="rId38" Type="http://schemas.openxmlformats.org/officeDocument/2006/relationships/audio" Target="../media/CASHREG.WAV"/><Relationship Id="rId39" Type="http://schemas.openxmlformats.org/officeDocument/2006/relationships/audio" Target="../media/CASHREG.WAV"/><Relationship Id="rId40" Type="http://schemas.openxmlformats.org/officeDocument/2006/relationships/audio" Target="../media/CASHREG.WAV"/><Relationship Id="rId41" Type="http://schemas.openxmlformats.org/officeDocument/2006/relationships/audio" Target="../media/CHIMES.WAV"/><Relationship Id="rId42" Type="http://schemas.openxmlformats.org/officeDocument/2006/relationships/audio" Target="../media/DRIVEBY.WAV"/><Relationship Id="rId43" Type="http://schemas.openxmlformats.org/officeDocument/2006/relationships/audio" Target="../media/LASER.WAV"/><Relationship Id="rId44" Type="http://schemas.openxmlformats.org/officeDocument/2006/relationships/audio" Target="../media/LASER.WAV"/><Relationship Id="rId45" Type="http://schemas.openxmlformats.org/officeDocument/2006/relationships/audio" Target="../media/LASER.WAV"/><Relationship Id="rId46" Type="http://schemas.openxmlformats.org/officeDocument/2006/relationships/audio" Target="../media/LASER.WAV"/><Relationship Id="rId47" Type="http://schemas.openxmlformats.org/officeDocument/2006/relationships/audio" Target="../media/DRIVEBY.WAV"/><Relationship Id="rId4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audio" Target="../media/doorbl07.wav"/><Relationship Id="rId10" Type="http://schemas.openxmlformats.org/officeDocument/2006/relationships/audio" Target="../media/doorbl07.wav"/><Relationship Id="rId11" Type="http://schemas.openxmlformats.org/officeDocument/2006/relationships/audio" Target="../media/doorbl07.wav"/><Relationship Id="rId12" Type="http://schemas.openxmlformats.org/officeDocument/2006/relationships/audio" Target="../media/children%20yeah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audio" Target="../media/doorbl07.wav"/><Relationship Id="rId18" Type="http://schemas.openxmlformats.org/officeDocument/2006/relationships/audio" Target="../media/slider22.wav"/><Relationship Id="rId19" Type="http://schemas.openxmlformats.org/officeDocument/2006/relationships/audio" Target="../media/slider22.wav"/><Relationship Id="rId20" Type="http://schemas.openxmlformats.org/officeDocument/2006/relationships/audio" Target="../media/doorbl07.wav"/><Relationship Id="rId21" Type="http://schemas.openxmlformats.org/officeDocument/2006/relationships/audio" Target="../media/doorbl07.wav"/><Relationship Id="rId22" Type="http://schemas.openxmlformats.org/officeDocument/2006/relationships/audio" Target="../media/doorbl07.wav"/><Relationship Id="rId23" Type="http://schemas.openxmlformats.org/officeDocument/2006/relationships/audio" Target="../media/doorbl07.wav"/><Relationship Id="rId24" Type="http://schemas.openxmlformats.org/officeDocument/2006/relationships/audio" Target="../media/children%20yeah.wav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7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9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40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4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42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4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44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45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6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47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48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49.wmf"/><Relationship Id="rId65" Type="http://schemas.openxmlformats.org/officeDocument/2006/relationships/audio" Target="../media/WHOOSH.WAV"/><Relationship Id="rId66" Type="http://schemas.openxmlformats.org/officeDocument/2006/relationships/audio" Target="../media/LASER.WAV"/><Relationship Id="rId67" Type="http://schemas.openxmlformats.org/officeDocument/2006/relationships/audio" Target="../media/CAMERA.WAV"/><Relationship Id="rId68" Type="http://schemas.openxmlformats.org/officeDocument/2006/relationships/audio" Target="../media/CAMERA.WAV"/><Relationship Id="rId69" Type="http://schemas.openxmlformats.org/officeDocument/2006/relationships/audio" Target="../media/DRIVEBY.WAV"/><Relationship Id="rId70" Type="http://schemas.openxmlformats.org/officeDocument/2006/relationships/audio" Target="../media/LASER.WAV"/><Relationship Id="rId71" Type="http://schemas.openxmlformats.org/officeDocument/2006/relationships/audio" Target="../media/LASER.WAV"/><Relationship Id="rId72" Type="http://schemas.openxmlformats.org/officeDocument/2006/relationships/audio" Target="../media/LASER.WAV"/><Relationship Id="rId73" Type="http://schemas.openxmlformats.org/officeDocument/2006/relationships/audio" Target="../media/LASER.WAV"/><Relationship Id="rId74" Type="http://schemas.openxmlformats.org/officeDocument/2006/relationships/audio" Target="../media/CAMERA.WAV"/><Relationship Id="rId75" Type="http://schemas.openxmlformats.org/officeDocument/2006/relationships/audio" Target="../media/CAMERA.WAV"/><Relationship Id="rId76" Type="http://schemas.openxmlformats.org/officeDocument/2006/relationships/audio" Target="../media/CAMERA.WAV"/><Relationship Id="rId77" Type="http://schemas.openxmlformats.org/officeDocument/2006/relationships/audio" Target="../media/CAMERA.WAV"/><Relationship Id="rId78" Type="http://schemas.openxmlformats.org/officeDocument/2006/relationships/audio" Target="../media/CAMERA.WAV"/><Relationship Id="rId79" Type="http://schemas.openxmlformats.org/officeDocument/2006/relationships/audio" Target="../media/CAMERA.WAV"/><Relationship Id="rId80" Type="http://schemas.openxmlformats.org/officeDocument/2006/relationships/audio" Target="../media/CAMERA.WAV"/><Relationship Id="rId81" Type="http://schemas.openxmlformats.org/officeDocument/2006/relationships/audio" Target="../media/CAMERA.WAV"/><Relationship Id="rId82" Type="http://schemas.openxmlformats.org/officeDocument/2006/relationships/audio" Target="../media/DRIVEBY.WAV"/><Relationship Id="rId83" Type="http://schemas.openxmlformats.org/officeDocument/2006/relationships/audio" Target="../media/CAMERA.WAV"/><Relationship Id="rId84" Type="http://schemas.openxmlformats.org/officeDocument/2006/relationships/audio" Target="../media/CAMERA.WAV"/><Relationship Id="rId85" Type="http://schemas.openxmlformats.org/officeDocument/2006/relationships/audio" Target="../media/CAMERA.WAV"/><Relationship Id="rId86" Type="http://schemas.openxmlformats.org/officeDocument/2006/relationships/audio" Target="../media/CAMERA.WAV"/><Relationship Id="rId87" Type="http://schemas.openxmlformats.org/officeDocument/2006/relationships/audio" Target="../media/CAMERA.WAV"/><Relationship Id="rId88" Type="http://schemas.openxmlformats.org/officeDocument/2006/relationships/audio" Target="../media/CAMERA.WAV"/><Relationship Id="rId89" Type="http://schemas.openxmlformats.org/officeDocument/2006/relationships/audio" Target="../media/CAMERA.WAV"/><Relationship Id="rId90" Type="http://schemas.openxmlformats.org/officeDocument/2006/relationships/audio" Target="../media/CAMERA.WAV"/><Relationship Id="rId91" Type="http://schemas.openxmlformats.org/officeDocument/2006/relationships/audio" Target="../media/CAMERA.WAV"/><Relationship Id="rId92" Type="http://schemas.openxmlformats.org/officeDocument/2006/relationships/audio" Target="../media/EXPLODE.WAV"/><Relationship Id="rId93" Type="http://schemas.openxmlformats.org/officeDocument/2006/relationships/audio" Target="../media/EXPLODE.WAV"/><Relationship Id="rId94" Type="http://schemas.openxmlformats.org/officeDocument/2006/relationships/audio" Target="../media/LASER.WAV"/><Relationship Id="rId95" Type="http://schemas.openxmlformats.org/officeDocument/2006/relationships/audio" Target="../media/LASER.WAV"/><Relationship Id="rId96" Type="http://schemas.openxmlformats.org/officeDocument/2006/relationships/audio" Target="../media/LASER.WAV"/><Relationship Id="rId97" Type="http://schemas.openxmlformats.org/officeDocument/2006/relationships/audio" Target="../media/DRIVEBY.WAV"/><Relationship Id="rId98" Type="http://schemas.openxmlformats.org/officeDocument/2006/relationships/audio" Target="../media/DRIVEBY.WAV"/><Relationship Id="rId99" Type="http://schemas.openxmlformats.org/officeDocument/2006/relationships/audio" Target="../media/LASER.WAV"/><Relationship Id="rId100" Type="http://schemas.openxmlformats.org/officeDocument/2006/relationships/audio" Target="../media/LASER.WAV"/><Relationship Id="rId101" Type="http://schemas.openxmlformats.org/officeDocument/2006/relationships/audio" Target="../media/LASER.WAV"/><Relationship Id="rId102" Type="http://schemas.openxmlformats.org/officeDocument/2006/relationships/audio" Target="../media/GUNSHOT.WAV"/><Relationship Id="rId103" Type="http://schemas.openxmlformats.org/officeDocument/2006/relationships/audio" Target="../media/GUNSHOT.WAV"/><Relationship Id="rId104" Type="http://schemas.openxmlformats.org/officeDocument/2006/relationships/audio" Target="../media/CLAP.WAV"/><Relationship Id="rId10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9.wmf"/><Relationship Id="rId23" Type="http://schemas.openxmlformats.org/officeDocument/2006/relationships/audio" Target="../media/zipby102.wav"/><Relationship Id="rId24" Type="http://schemas.openxmlformats.org/officeDocument/2006/relationships/audio" Target="../media/zipby102.wav"/><Relationship Id="rId25" Type="http://schemas.openxmlformats.org/officeDocument/2006/relationships/audio" Target="../media/zipby102.wav"/><Relationship Id="rId26" Type="http://schemas.openxmlformats.org/officeDocument/2006/relationships/audio" Target="../media/zipby102.wav"/><Relationship Id="rId27" Type="http://schemas.openxmlformats.org/officeDocument/2006/relationships/audio" Target="../media/zipby102.wav"/><Relationship Id="rId28" Type="http://schemas.openxmlformats.org/officeDocument/2006/relationships/audio" Target="../media/zipby102.wav"/><Relationship Id="rId29" Type="http://schemas.openxmlformats.org/officeDocument/2006/relationships/audio" Target="../media/zipby102.wav"/><Relationship Id="rId30" Type="http://schemas.openxmlformats.org/officeDocument/2006/relationships/audio" Target="../media/zapbig0g.wav"/><Relationship Id="rId31" Type="http://schemas.openxmlformats.org/officeDocument/2006/relationships/audio" Target="../media/zapbig0g.wav"/><Relationship Id="rId32" Type="http://schemas.openxmlformats.org/officeDocument/2006/relationships/audio" Target="../media/byipee04.wav"/><Relationship Id="rId33" Type="http://schemas.openxmlformats.org/officeDocument/2006/relationships/audio" Target="../media/byipee04.wav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9.wmf"/><Relationship Id="rId23" Type="http://schemas.openxmlformats.org/officeDocument/2006/relationships/audio" Target="../media/WHOOSH.WAV"/><Relationship Id="rId24" Type="http://schemas.openxmlformats.org/officeDocument/2006/relationships/audio" Target="../media/kid%20yeah.wav"/><Relationship Id="rId25" Type="http://schemas.openxmlformats.org/officeDocument/2006/relationships/audio" Target="../media/LASER.WAV"/><Relationship Id="rId26" Type="http://schemas.openxmlformats.org/officeDocument/2006/relationships/audio" Target="../media/GUNSHOT.WAV"/><Relationship Id="rId27" Type="http://schemas.openxmlformats.org/officeDocument/2006/relationships/audio" Target="../media/GUNSHOT.WAV"/><Relationship Id="rId28" Type="http://schemas.openxmlformats.org/officeDocument/2006/relationships/audio" Target="../media/hzipup01.wav"/><Relationship Id="rId29" Type="http://schemas.openxmlformats.org/officeDocument/2006/relationships/audio" Target="../media/hzipup01.wav"/><Relationship Id="rId30" Type="http://schemas.openxmlformats.org/officeDocument/2006/relationships/audio" Target="../media/DRIVEBY.WAV"/><Relationship Id="rId31" Type="http://schemas.openxmlformats.org/officeDocument/2006/relationships/audio" Target="../media/child%20yikes.wav"/><Relationship Id="rId32" Type="http://schemas.openxmlformats.org/officeDocument/2006/relationships/audio" Target="../media/children%20yeah.wav"/><Relationship Id="rId33" Type="http://schemas.openxmlformats.org/officeDocument/2006/relationships/audio" Target="../media/children%20yeah.wav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8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2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84.wmf"/><Relationship Id="rId43" Type="http://schemas.openxmlformats.org/officeDocument/2006/relationships/audio" Target="../media/WHOOSH.WAV"/><Relationship Id="rId44" Type="http://schemas.openxmlformats.org/officeDocument/2006/relationships/audio" Target="../media/LASER.WAV"/><Relationship Id="rId45" Type="http://schemas.openxmlformats.org/officeDocument/2006/relationships/audio" Target="../media/hzipup01.wav"/><Relationship Id="rId46" Type="http://schemas.openxmlformats.org/officeDocument/2006/relationships/audio" Target="../media/caralarmoff.wav"/><Relationship Id="rId47" Type="http://schemas.openxmlformats.org/officeDocument/2006/relationships/audio" Target="../media/caralarmoff.wav"/><Relationship Id="rId48" Type="http://schemas.openxmlformats.org/officeDocument/2006/relationships/audio" Target="../media/hzipup01.wav"/><Relationship Id="rId49" Type="http://schemas.openxmlformats.org/officeDocument/2006/relationships/audio" Target="../media/hzipup01.wav"/><Relationship Id="rId50" Type="http://schemas.openxmlformats.org/officeDocument/2006/relationships/audio" Target="../media/hzipup01.wav"/><Relationship Id="rId51" Type="http://schemas.openxmlformats.org/officeDocument/2006/relationships/audio" Target="../media/hzipup01.wav"/><Relationship Id="rId52" Type="http://schemas.openxmlformats.org/officeDocument/2006/relationships/audio" Target="../media/hzipup01.wav"/><Relationship Id="rId53" Type="http://schemas.openxmlformats.org/officeDocument/2006/relationships/audio" Target="../media/hzipup01.wav"/><Relationship Id="rId54" Type="http://schemas.openxmlformats.org/officeDocument/2006/relationships/audio" Target="../media/child%20yikes.wav"/><Relationship Id="rId55" Type="http://schemas.openxmlformats.org/officeDocument/2006/relationships/audio" Target="../media/children%20yeah.wav"/><Relationship Id="rId56" Type="http://schemas.openxmlformats.org/officeDocument/2006/relationships/audio" Target="../media/highchime.wav"/><Relationship Id="rId57" Type="http://schemas.openxmlformats.org/officeDocument/2006/relationships/audio" Target="../media/LASER.WAV"/><Relationship Id="rId58" Type="http://schemas.openxmlformats.org/officeDocument/2006/relationships/audio" Target="../media/LASER.WAV"/><Relationship Id="rId59" Type="http://schemas.openxmlformats.org/officeDocument/2006/relationships/audio" Target="../media/LASER.WAV"/><Relationship Id="rId60" Type="http://schemas.openxmlformats.org/officeDocument/2006/relationships/audio" Target="../media/LASER.WAV"/><Relationship Id="rId61" Type="http://schemas.openxmlformats.org/officeDocument/2006/relationships/audio" Target="../media/highchime.wav"/><Relationship Id="rId62" Type="http://schemas.openxmlformats.org/officeDocument/2006/relationships/audio" Target="../media/LASER.WAV"/><Relationship Id="rId63" Type="http://schemas.openxmlformats.org/officeDocument/2006/relationships/audio" Target="../media/LASER.WAV"/><Relationship Id="rId64" Type="http://schemas.openxmlformats.org/officeDocument/2006/relationships/audio" Target="../media/byipee04.wav"/><Relationship Id="rId6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8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8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94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9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95.wmf"/><Relationship Id="rId41" Type="http://schemas.openxmlformats.org/officeDocument/2006/relationships/audio" Target="../media/highchime.wav"/><Relationship Id="rId42" Type="http://schemas.openxmlformats.org/officeDocument/2006/relationships/audio" Target="../media/LASER.WAV"/><Relationship Id="rId43" Type="http://schemas.openxmlformats.org/officeDocument/2006/relationships/audio" Target="../media/LASER.WAV"/><Relationship Id="rId44" Type="http://schemas.openxmlformats.org/officeDocument/2006/relationships/audio" Target="../media/LASER.WAV"/><Relationship Id="rId45" Type="http://schemas.openxmlformats.org/officeDocument/2006/relationships/audio" Target="../media/LASER.WAV"/><Relationship Id="rId46" Type="http://schemas.openxmlformats.org/officeDocument/2006/relationships/audio" Target="../media/LASER.WAV"/><Relationship Id="rId47" Type="http://schemas.openxmlformats.org/officeDocument/2006/relationships/audio" Target="../media/LASER.WAV"/><Relationship Id="rId48" Type="http://schemas.openxmlformats.org/officeDocument/2006/relationships/audio" Target="../media/LASER.WAV"/><Relationship Id="rId49" Type="http://schemas.openxmlformats.org/officeDocument/2006/relationships/audio" Target="../media/LASER.WAV"/><Relationship Id="rId50" Type="http://schemas.openxmlformats.org/officeDocument/2006/relationships/audio" Target="../media/LASER.WAV"/><Relationship Id="rId51" Type="http://schemas.openxmlformats.org/officeDocument/2006/relationships/audio" Target="../media/LASER.WAV"/><Relationship Id="rId52" Type="http://schemas.openxmlformats.org/officeDocument/2006/relationships/audio" Target="../media/LASER.WAV"/><Relationship Id="rId53" Type="http://schemas.openxmlformats.org/officeDocument/2006/relationships/audio" Target="../media/LASER.WAV"/><Relationship Id="rId54" Type="http://schemas.openxmlformats.org/officeDocument/2006/relationships/audio" Target="../media/LASER.WAV"/><Relationship Id="rId55" Type="http://schemas.openxmlformats.org/officeDocument/2006/relationships/audio" Target="../media/LASER.WAV"/><Relationship Id="rId56" Type="http://schemas.openxmlformats.org/officeDocument/2006/relationships/audio" Target="../media/LASER.WAV"/><Relationship Id="rId57" Type="http://schemas.openxmlformats.org/officeDocument/2006/relationships/audio" Target="../media/LASER.WAV"/><Relationship Id="rId58" Type="http://schemas.openxmlformats.org/officeDocument/2006/relationships/audio" Target="../media/LASER.WAV"/><Relationship Id="rId59" Type="http://schemas.openxmlformats.org/officeDocument/2006/relationships/audio" Target="../media/LASER.WAV"/><Relationship Id="rId6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yabba-dabba-do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hapter 12 Review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914400"/>
          <a:ext cx="304956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30495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04920" y="167652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mai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13372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ng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80880" y="2666880"/>
            <a:ext cx="3200400" cy="2361960"/>
            <a:chOff x="380880" y="2666880"/>
            <a:chExt cx="3200400" cy="2361960"/>
          </a:xfrm>
        </p:grpSpPr>
        <p:sp>
          <p:nvSpPr>
            <p:cNvPr id="47" name=""/>
            <p:cNvSpPr/>
            <p:nvPr/>
          </p:nvSpPr>
          <p:spPr>
            <a:xfrm>
              <a:off x="380880" y="365724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0880" y="411444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457164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880" y="502884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80880" y="320004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55000" y="281916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9920" y="2666880"/>
              <a:ext cx="414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44200" y="2666880"/>
              <a:ext cx="41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" name=""/>
          <p:cNvGraphicFramePr/>
          <p:nvPr/>
        </p:nvGraphicFramePr>
        <p:xfrm>
          <a:off x="1905120" y="1676520"/>
          <a:ext cx="1168200" cy="49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1676520"/>
                    <a:ext cx="116820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808280" y="2133720"/>
          <a:ext cx="1460520" cy="63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8280" y="2133720"/>
                    <a:ext cx="146052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80880" y="312408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58128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03848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4495680"/>
            <a:ext cx="3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85960" y="3200400"/>
          <a:ext cx="1847880" cy="57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85960" y="3200400"/>
                    <a:ext cx="18478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666880" y="3276720"/>
          <a:ext cx="78912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3276720"/>
                    <a:ext cx="789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914400" y="3657600"/>
          <a:ext cx="1792440" cy="573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3657600"/>
                    <a:ext cx="17924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666880" y="3733920"/>
          <a:ext cx="573120" cy="360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66880" y="3733920"/>
                    <a:ext cx="573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885960" y="4114800"/>
          <a:ext cx="1847880" cy="573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85960" y="4114800"/>
                    <a:ext cx="18478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666880" y="4191120"/>
          <a:ext cx="573120" cy="360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666880" y="4191120"/>
                    <a:ext cx="573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885960" y="4572000"/>
          <a:ext cx="1847880" cy="533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85960" y="4572000"/>
                    <a:ext cx="18478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666880" y="4648320"/>
          <a:ext cx="573120" cy="380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66880" y="4648320"/>
                    <a:ext cx="573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" name=""/>
          <p:cNvGrpSpPr/>
          <p:nvPr/>
        </p:nvGrpSpPr>
        <p:grpSpPr>
          <a:xfrm>
            <a:off x="4648320" y="1752480"/>
            <a:ext cx="2743200" cy="2743200"/>
            <a:chOff x="4648320" y="1752480"/>
            <a:chExt cx="2743200" cy="2743200"/>
          </a:xfrm>
        </p:grpSpPr>
        <p:grpSp>
          <p:nvGrpSpPr>
            <p:cNvPr id="80" name=""/>
            <p:cNvGrpSpPr/>
            <p:nvPr/>
          </p:nvGrpSpPr>
          <p:grpSpPr>
            <a:xfrm>
              <a:off x="4648320" y="1752480"/>
              <a:ext cx="2743200" cy="2743200"/>
              <a:chOff x="4648320" y="1752480"/>
              <a:chExt cx="2743200" cy="2743200"/>
            </a:xfrm>
          </p:grpSpPr>
          <p:sp>
            <p:nvSpPr>
              <p:cNvPr id="81" name=""/>
              <p:cNvSpPr/>
              <p:nvPr/>
            </p:nvSpPr>
            <p:spPr>
              <a:xfrm>
                <a:off x="4648320" y="44956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648320" y="419076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648320" y="388584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648320" y="35812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648320" y="327636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648320" y="297144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648320" y="26668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648320" y="236196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648320" y="205704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648320" y="1752480"/>
                <a:ext cx="2743200" cy="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4648320" y="1752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53240" y="1752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58160" y="1752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62720" y="1752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7640" y="1752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72560" y="1752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77120" y="1752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82040" y="1752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86960" y="1752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91520" y="1752480"/>
              <a:ext cx="0" cy="27432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419720" y="1523880"/>
            <a:ext cx="3200400" cy="3200400"/>
            <a:chOff x="4419720" y="1523880"/>
            <a:chExt cx="3200400" cy="3200400"/>
          </a:xfrm>
        </p:grpSpPr>
        <p:sp>
          <p:nvSpPr>
            <p:cNvPr id="102" name=""/>
            <p:cNvSpPr/>
            <p:nvPr/>
          </p:nvSpPr>
          <p:spPr>
            <a:xfrm flipV="1">
              <a:off x="4952880" y="152388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19720" y="327636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876920" y="3809880"/>
            <a:ext cx="15228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3200400"/>
            <a:ext cx="15264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2590920"/>
            <a:ext cx="152640" cy="1522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1981080"/>
            <a:ext cx="152280" cy="1526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4" idx="7"/>
          </p:cNvCxnSpPr>
          <p:nvPr/>
        </p:nvCxnSpPr>
        <p:spPr>
          <a:xfrm flipV="1">
            <a:off x="5006880" y="1904400"/>
            <a:ext cx="4137840" cy="1928160"/>
          </a:xfrm>
          <a:prstGeom prst="curvedConnector3">
            <a:avLst>
              <a:gd name="adj1" fmla="val 2541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hapter 12 Review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033640" y="1219320"/>
          <a:ext cx="3128760" cy="79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1219320"/>
                    <a:ext cx="312876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133720" y="1981080"/>
          <a:ext cx="2985840" cy="79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981080"/>
                    <a:ext cx="298584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362320" y="2819520"/>
          <a:ext cx="236376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2819520"/>
                    <a:ext cx="236376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724280" y="2819520"/>
          <a:ext cx="1565280" cy="79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2819520"/>
                    <a:ext cx="15652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hapter 12 Review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25600" y="2057400"/>
          <a:ext cx="2558880" cy="15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2057400"/>
                    <a:ext cx="255888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952880" y="1981080"/>
          <a:ext cx="2414880" cy="16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981080"/>
                    <a:ext cx="241488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514600" y="3809880"/>
          <a:ext cx="2989440" cy="160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3809880"/>
                    <a:ext cx="298944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124080" y="1981080"/>
          <a:ext cx="178776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1981080"/>
                    <a:ext cx="17877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124080" y="2743200"/>
          <a:ext cx="178776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24080" y="2743200"/>
                    <a:ext cx="17877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095880" y="1828800"/>
          <a:ext cx="1752840" cy="798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1828800"/>
                    <a:ext cx="175284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638680" y="2819520"/>
          <a:ext cx="711360" cy="56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2819520"/>
                    <a:ext cx="7113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324480" y="2819520"/>
          <a:ext cx="800280" cy="56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2819520"/>
                    <a:ext cx="8002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hapter 12 Review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3121200" y="5562720"/>
            <a:ext cx="1523880" cy="761760"/>
          </a:xfrm>
          <a:prstGeom prst="ellipse">
            <a:avLst/>
          </a:prstGeom>
          <a:solidFill>
            <a:srgbClr val="ffffcc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1680" y="1219320"/>
            <a:ext cx="883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olve each equation and check for extraneous solu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5360" y="1752480"/>
          <a:ext cx="361800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752480"/>
                    <a:ext cx="36180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444680" y="2666880"/>
          <a:ext cx="1752480" cy="8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4680" y="2666880"/>
                    <a:ext cx="175248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349800" y="2666880"/>
          <a:ext cx="1511280" cy="85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9800" y="2666880"/>
                    <a:ext cx="151128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901880" y="3429000"/>
          <a:ext cx="101736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1880" y="3429000"/>
                    <a:ext cx="10173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968560" y="3276720"/>
          <a:ext cx="976320" cy="61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68560" y="3276720"/>
                    <a:ext cx="9763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596960" y="3886200"/>
          <a:ext cx="690480" cy="404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96960" y="3886200"/>
                    <a:ext cx="6904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959280" y="3886200"/>
          <a:ext cx="690480" cy="404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59280" y="3886200"/>
                    <a:ext cx="6904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596960" y="43434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587680" y="4419720"/>
          <a:ext cx="361800" cy="484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87680" y="4419720"/>
                    <a:ext cx="3618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892600" y="4267080"/>
          <a:ext cx="97452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92600" y="4267080"/>
                    <a:ext cx="974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521000" y="2743200"/>
          <a:ext cx="1555560" cy="657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521000" y="2743200"/>
                    <a:ext cx="15555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227320" y="2286000"/>
          <a:ext cx="649080" cy="485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27320" y="2286000"/>
                    <a:ext cx="6490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349800" y="2286000"/>
          <a:ext cx="649080" cy="485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349800" y="2286000"/>
                    <a:ext cx="6490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835200" y="27432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4880" y="2895480"/>
          <a:ext cx="1473120" cy="462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044880" y="2895480"/>
                    <a:ext cx="147312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807000" y="3429000"/>
          <a:ext cx="936360" cy="457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807000" y="3429000"/>
                    <a:ext cx="936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68760" y="3429000"/>
          <a:ext cx="690480" cy="4572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568760" y="3429000"/>
                    <a:ext cx="69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282760" y="3809880"/>
          <a:ext cx="614520" cy="4874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282760" y="3809880"/>
                    <a:ext cx="6145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568760" y="3809880"/>
          <a:ext cx="614520" cy="4874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568760" y="3809880"/>
                    <a:ext cx="6145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730680" y="4419720"/>
          <a:ext cx="934920" cy="485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730680" y="4419720"/>
                    <a:ext cx="9349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568760" y="4419720"/>
          <a:ext cx="898560" cy="485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568760" y="4419720"/>
                    <a:ext cx="8985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511360" y="4952880"/>
          <a:ext cx="3306960" cy="7351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511360" y="4952880"/>
                    <a:ext cx="330696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349800" y="5105520"/>
          <a:ext cx="401400" cy="4032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3349800" y="5105520"/>
                    <a:ext cx="401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645080" y="5105520"/>
          <a:ext cx="401760" cy="40320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4645080" y="5105520"/>
                    <a:ext cx="4017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730680" y="5029200"/>
          <a:ext cx="644400" cy="4842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730680" y="5029200"/>
                    <a:ext cx="6444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950000" y="5029200"/>
          <a:ext cx="684000" cy="4842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4950000" y="5029200"/>
                    <a:ext cx="6840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349800" y="5715000"/>
          <a:ext cx="1089000" cy="4842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49800" y="5715000"/>
                    <a:ext cx="10890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568760" y="5715000"/>
          <a:ext cx="1130400" cy="48420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568760" y="5715000"/>
                    <a:ext cx="11304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491080" y="1828800"/>
          <a:ext cx="2840040" cy="65736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491080" y="1828800"/>
                    <a:ext cx="28400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830920" y="2362320"/>
          <a:ext cx="2295360" cy="65700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830920" y="2362320"/>
                    <a:ext cx="22953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245280" y="3048120"/>
          <a:ext cx="1940040" cy="46332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6245280" y="3048120"/>
                    <a:ext cx="194004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8226360" y="320040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8379000" y="30481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559480" y="3505320"/>
          <a:ext cx="2917800" cy="65700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5559480" y="3505320"/>
                    <a:ext cx="291780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6207120" y="4114800"/>
          <a:ext cx="2295360" cy="65736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6207120" y="4114800"/>
                    <a:ext cx="22953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6588000" y="4800600"/>
          <a:ext cx="1900440" cy="4618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6588000" y="4800600"/>
                    <a:ext cx="19004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8531280" y="48006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8531280" y="48006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hapter 12 Review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olving by Completing the Squ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498760" y="1981080"/>
          <a:ext cx="1060560" cy="13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1981080"/>
                    <a:ext cx="106056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145040" y="1981080"/>
          <a:ext cx="1062000" cy="131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5040" y="1981080"/>
                    <a:ext cx="106200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981080" y="3352680"/>
          <a:ext cx="2346480" cy="153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352680"/>
                    <a:ext cx="234648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2498760" y="4929120"/>
          <a:ext cx="1616040" cy="131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8760" y="4929120"/>
                    <a:ext cx="161604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69960" y="1981080"/>
          <a:ext cx="3629160" cy="1316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9960" y="1981080"/>
                    <a:ext cx="362916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1122480" y="1219320"/>
          <a:ext cx="3286080" cy="63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22480" y="1219320"/>
                    <a:ext cx="32860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4327560" y="3429000"/>
          <a:ext cx="720720" cy="1317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27560" y="3429000"/>
                    <a:ext cx="7207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4098960" y="4929120"/>
          <a:ext cx="847800" cy="1319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98960" y="4929120"/>
                    <a:ext cx="84780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5943600" y="1447920"/>
          <a:ext cx="2465280" cy="1560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43600" y="1447920"/>
                    <a:ext cx="2465280" cy="15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334120" y="3657600"/>
          <a:ext cx="1406520" cy="600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34120" y="3657600"/>
                    <a:ext cx="14065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861240" y="3178080"/>
          <a:ext cx="2163600" cy="1560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861240" y="3178080"/>
                    <a:ext cx="216360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hapter 12 Review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se the Pythagorean Theorem to find the missing length of the right tri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2438280"/>
            <a:ext cx="2104920" cy="2859120"/>
            <a:chOff x="457200" y="2438280"/>
            <a:chExt cx="2104920" cy="2859120"/>
          </a:xfrm>
        </p:grpSpPr>
        <p:graphicFrame>
          <p:nvGraphicFramePr>
            <p:cNvPr id="235" name=""/>
            <p:cNvGraphicFramePr/>
            <p:nvPr/>
          </p:nvGraphicFramePr>
          <p:xfrm>
            <a:off x="457200" y="3352680"/>
            <a:ext cx="1166760" cy="42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352680"/>
                      <a:ext cx="116676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7" name=""/>
            <p:cNvSpPr/>
            <p:nvPr/>
          </p:nvSpPr>
          <p:spPr>
            <a:xfrm flipH="1">
              <a:off x="761400" y="2438280"/>
              <a:ext cx="1447560" cy="2438640"/>
            </a:xfrm>
            <a:prstGeom prst="rtTriangl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8" name=""/>
            <p:cNvGraphicFramePr/>
            <p:nvPr/>
          </p:nvGraphicFramePr>
          <p:xfrm>
            <a:off x="1081080" y="4876920"/>
            <a:ext cx="985680" cy="420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81080" y="4876920"/>
                      <a:ext cx="985680" cy="42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0" name=""/>
            <p:cNvGraphicFramePr/>
            <p:nvPr/>
          </p:nvGraphicFramePr>
          <p:xfrm>
            <a:off x="2209680" y="3505320"/>
            <a:ext cx="352440" cy="514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09680" y="3505320"/>
                      <a:ext cx="352440" cy="51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2" name=""/>
            <p:cNvSpPr/>
            <p:nvPr/>
          </p:nvSpPr>
          <p:spPr>
            <a:xfrm>
              <a:off x="685800" y="2514600"/>
              <a:ext cx="68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3" name=""/>
          <p:cNvGraphicFramePr/>
          <p:nvPr/>
        </p:nvGraphicFramePr>
        <p:xfrm>
          <a:off x="4114800" y="2209680"/>
          <a:ext cx="2575080" cy="65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2209680"/>
                    <a:ext cx="257508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114800" y="2895480"/>
          <a:ext cx="2787480" cy="65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2895480"/>
                    <a:ext cx="278748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114800" y="3505320"/>
          <a:ext cx="2962440" cy="655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14800" y="3505320"/>
                    <a:ext cx="296244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3809880" y="4038480"/>
          <a:ext cx="997200" cy="519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9880" y="4038480"/>
                    <a:ext cx="9972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6095880" y="4038480"/>
          <a:ext cx="997200" cy="519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5880" y="4038480"/>
                    <a:ext cx="9972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3962520" y="45720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029200" y="4495680"/>
          <a:ext cx="1920960" cy="655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29200" y="4495680"/>
                    <a:ext cx="19209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4952880" y="5105520"/>
          <a:ext cx="2095560" cy="738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52880" y="5105520"/>
                    <a:ext cx="209556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7162920" y="5257800"/>
          <a:ext cx="1042920" cy="519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162920" y="5257800"/>
                    <a:ext cx="1042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hapter 12 Review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91440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distance and midpoint between the two poin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28600" y="2476440"/>
          <a:ext cx="571500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76440"/>
                    <a:ext cx="57150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0" y="3543480"/>
          <a:ext cx="4406760" cy="10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543480"/>
                    <a:ext cx="440676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4122720" y="3619440"/>
          <a:ext cx="2652840" cy="80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2720" y="3619440"/>
                    <a:ext cx="265284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6477120" y="3581280"/>
          <a:ext cx="1604880" cy="80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3581280"/>
                    <a:ext cx="16048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8077320" y="3657600"/>
          <a:ext cx="1066680" cy="70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77320" y="3657600"/>
                    <a:ext cx="10666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1676520" y="2781360"/>
          <a:ext cx="1390680" cy="51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2781360"/>
                    <a:ext cx="13906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114800" y="2781360"/>
          <a:ext cx="1133640" cy="51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14800" y="2781360"/>
                    <a:ext cx="11336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262080" y="1866960"/>
          <a:ext cx="3316320" cy="787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2080" y="1866960"/>
                    <a:ext cx="33163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1447920" y="3886200"/>
          <a:ext cx="691920" cy="517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47920" y="3886200"/>
                    <a:ext cx="6919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3124080" y="3886200"/>
          <a:ext cx="736560" cy="517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24080" y="3886200"/>
                    <a:ext cx="7365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5105520" y="3809880"/>
          <a:ext cx="466560" cy="563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105520" y="3809880"/>
                    <a:ext cx="4665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5943600" y="3809880"/>
          <a:ext cx="708120" cy="563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943600" y="3809880"/>
                    <a:ext cx="7081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304920" y="4952880"/>
          <a:ext cx="3709800" cy="1481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04920" y="4952880"/>
                    <a:ext cx="3709800" cy="14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687240" y="5029200"/>
          <a:ext cx="385920" cy="519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7240" y="5029200"/>
                    <a:ext cx="385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324320" y="5029200"/>
          <a:ext cx="692280" cy="5191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324320" y="5029200"/>
                    <a:ext cx="6922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1371600" y="5029200"/>
          <a:ext cx="690480" cy="5191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371600" y="5029200"/>
                    <a:ext cx="6904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360520" y="5029200"/>
          <a:ext cx="432000" cy="519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360520" y="5029200"/>
                    <a:ext cx="4320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3200400" y="5029200"/>
          <a:ext cx="387360" cy="5191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200400" y="502920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3962520" y="4876920"/>
          <a:ext cx="2442960" cy="14810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62520" y="4876920"/>
                    <a:ext cx="244296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5446800" y="5029200"/>
          <a:ext cx="430200" cy="5191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5446800" y="5029200"/>
                    <a:ext cx="4302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6416640" y="4876920"/>
          <a:ext cx="2727360" cy="15206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416640" y="4876920"/>
                    <a:ext cx="2727360" cy="15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hapter 12 Review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04920" y="838080"/>
            <a:ext cx="8839080" cy="550800"/>
            <a:chOff x="304920" y="838080"/>
            <a:chExt cx="8839080" cy="550800"/>
          </a:xfrm>
        </p:grpSpPr>
        <p:sp>
          <p:nvSpPr>
            <p:cNvPr id="306" name=""/>
            <p:cNvSpPr/>
            <p:nvPr/>
          </p:nvSpPr>
          <p:spPr>
            <a:xfrm>
              <a:off x="304920" y="838080"/>
              <a:ext cx="8839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Find the sine, cosine, and tangent of    A and    C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7" name=""/>
            <p:cNvGraphicFramePr/>
            <p:nvPr/>
          </p:nvGraphicFramePr>
          <p:xfrm>
            <a:off x="6248520" y="914040"/>
            <a:ext cx="45720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48520" y="914040"/>
                      <a:ext cx="457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9" name=""/>
            <p:cNvGraphicFramePr/>
            <p:nvPr/>
          </p:nvGraphicFramePr>
          <p:xfrm>
            <a:off x="7620120" y="914040"/>
            <a:ext cx="45720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0120" y="914040"/>
                      <a:ext cx="457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1" name=""/>
          <p:cNvGrpSpPr/>
          <p:nvPr/>
        </p:nvGrpSpPr>
        <p:grpSpPr>
          <a:xfrm>
            <a:off x="0" y="1371600"/>
            <a:ext cx="4038480" cy="1587240"/>
            <a:chOff x="0" y="1371600"/>
            <a:chExt cx="4038480" cy="1587240"/>
          </a:xfrm>
        </p:grpSpPr>
        <p:sp>
          <p:nvSpPr>
            <p:cNvPr id="312" name=""/>
            <p:cNvSpPr/>
            <p:nvPr/>
          </p:nvSpPr>
          <p:spPr>
            <a:xfrm>
              <a:off x="838080" y="1828440"/>
              <a:ext cx="2819520" cy="685440"/>
            </a:xfrm>
            <a:prstGeom prst="rtTriangl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880" y="14475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57200" y="23619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24382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3520" y="19047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28800" y="2438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33720" y="16761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80"/>
                  </a:solidFill>
                  <a:latin typeface="Times New Roman"/>
                </a:rPr>
                <a:t>4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0" y="1371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0" name=""/>
          <p:cNvGraphicFramePr/>
          <p:nvPr/>
        </p:nvGraphicFramePr>
        <p:xfrm>
          <a:off x="4070520" y="1295280"/>
          <a:ext cx="3352680" cy="113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0520" y="1295280"/>
                    <a:ext cx="33526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4146480" y="2362320"/>
          <a:ext cx="3421080" cy="113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6480" y="2362320"/>
                    <a:ext cx="342108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7423200" y="1295280"/>
          <a:ext cx="954000" cy="105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23200" y="1295280"/>
                    <a:ext cx="95400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7804080" y="1905120"/>
          <a:ext cx="513000" cy="40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04080" y="1905120"/>
                    <a:ext cx="5130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7532640" y="2362320"/>
          <a:ext cx="952560" cy="1058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32640" y="236232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7913520" y="2971800"/>
          <a:ext cx="513000" cy="407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913520" y="2971800"/>
                    <a:ext cx="5130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4403880" y="3429000"/>
          <a:ext cx="2906640" cy="1131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03880" y="3429000"/>
                    <a:ext cx="290664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7532640" y="3429000"/>
          <a:ext cx="952560" cy="1058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32640" y="342900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8001000" y="4038480"/>
          <a:ext cx="338040" cy="408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001000" y="4038480"/>
                    <a:ext cx="33804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17640" y="4114800"/>
          <a:ext cx="3317760" cy="1131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7640" y="4114800"/>
                    <a:ext cx="331776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3352680" y="4114800"/>
          <a:ext cx="954360" cy="1058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352680" y="4114800"/>
                    <a:ext cx="9543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3733920" y="4724280"/>
          <a:ext cx="512640" cy="408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733920" y="4724280"/>
                    <a:ext cx="51264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17640" y="5345280"/>
          <a:ext cx="3385800" cy="1131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7640" y="5345280"/>
                    <a:ext cx="33858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3386160" y="5345280"/>
          <a:ext cx="952560" cy="10587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386160" y="534528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3767040" y="5954760"/>
          <a:ext cx="513000" cy="407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767040" y="5954760"/>
                    <a:ext cx="5130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5105520" y="4572000"/>
          <a:ext cx="2871720" cy="1131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5105520" y="4572000"/>
                    <a:ext cx="287172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7962840" y="4572000"/>
          <a:ext cx="952560" cy="10587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962840" y="4572000"/>
                    <a:ext cx="9525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8344080" y="5181480"/>
          <a:ext cx="512640" cy="4082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8344080" y="5181480"/>
                    <a:ext cx="51264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hapter 12 Review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1828800"/>
            <a:ext cx="91440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00"/>
                </a:solidFill>
                <a:latin typeface="Times New Roman"/>
              </a:rPr>
              <a:t>Chapter 12 Review Pg. 766 #1-24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yabba-dabba-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5-03-31T20:19:25Z</dcterms:modified>
  <cp:revision>62</cp:revision>
  <dc:subject/>
  <dc:title>No Slide Title</dc:title>
</cp:coreProperties>
</file>